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3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9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5202-1DB5-49C9-B382-9EDCBF0C43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AD2E-B199-4899-83ED-1F90E4A1CC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A033-DF67-4EA5-8140-C20F43583A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8845-B614-48C0-A120-E53487CD06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8279-C564-4711-92C0-2F6EFDE53D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FD40-3840-4B93-9BF9-66FDBC7F94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5038-AD92-47AC-8CBA-D0BD6875FA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367F-0A44-474A-8685-CD31675F57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8923-A646-4E2D-ADEE-A109298A0D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0897-1519-434A-A6CB-A1094FDC7A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7280-A4FC-4FD6-BC0E-E64A0A7BD6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F6D-48CB-456E-AEA3-D140E965FE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6E0C-93FB-4004-B660-7B93923467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F59C-60D1-4D9F-945C-642A006060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4583-25FD-4800-883B-005791877C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3855-AAFD-4D29-9917-A79293EE25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3C0F-77F1-461E-90D6-90DB98D8C2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6EEE-DF53-4688-8557-3190102D3F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44DE-1243-44F6-9FA9-234F4EBB01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F7EB-C7D0-4F0F-9324-E05304F6D2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941A-CB4E-4A0F-BD0F-CBA26F97F0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5383-A137-4656-8144-9351412B2C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541F-5D29-4882-96A8-C833721F41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FE26-37B1-4AEE-80E4-E1974F5742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2CEF-E229-4A7F-B0B5-EE06760919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C1BC-3299-4A85-BFFE-88ABBB2DFC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BB84-B2D4-41B9-8013-DE1939CC57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BFC7-A720-4A63-8D55-BF04BD1831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43000" y="421344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48588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8920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3504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4300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8920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23504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91440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8588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43000" y="421344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48588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8920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35040" y="190512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4300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8920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235040" y="4213440"/>
            <a:ext cx="14720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91440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5880" y="421344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5880" y="1905120"/>
            <a:ext cx="2230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4213440"/>
            <a:ext cx="4572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9672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Comic Sans MS"/>
              </a:rPr>
              <a:t>What Are Mutations?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anges in the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nucleotide sequen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DNA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 occur in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somatic 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aren’t passed to offspring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 occur in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gamet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eggs &amp; sperm) and be passed to offspr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Duplic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520" y="1294920"/>
            <a:ext cx="4496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ccurs when a gen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equence is repeated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388620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Transloc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3716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volv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 chromosom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at aren’t homologou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f one chromosome i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red to another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hromosom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Transloc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109" name="Picture 2" descr="http://dwb.unl.edu/Teacher/NSF/C08/C08Links/library.thinkquest.org/18258/media/translocation.gif"/>
          <p:cNvPicPr/>
          <p:nvPr/>
        </p:nvPicPr>
        <p:blipFill>
          <a:blip r:embed="rId1"/>
          <a:stretch/>
        </p:blipFill>
        <p:spPr>
          <a:xfrm>
            <a:off x="762120" y="1600200"/>
            <a:ext cx="42084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Nondisjunc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Failur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f chromosom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o sepa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during meiosi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es gamete to hav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oo many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too few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romosom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orders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Syndro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ree 2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romoso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Turner Syndrom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ngle X chromos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Klinefelter’s Syndrom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XY chromoso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www.uic.edu/classes/bios/bios100/lectf03am/nondisjunc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hromosome mutations animation"/>
          <p:cNvPicPr/>
          <p:nvPr/>
        </p:nvPicPr>
        <p:blipFill>
          <a:blip r:embed="rId1"/>
          <a:stretch/>
        </p:blipFill>
        <p:spPr>
          <a:xfrm>
            <a:off x="457200" y="2362320"/>
            <a:ext cx="8161200" cy="1942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Chromosome Mutation Anim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Gene Muta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160" y="15998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ange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ucleotide sequence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gen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y only involve a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ingle nucleotid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y be due t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opying err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virus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etc.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Types of Gene Muta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clude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Point Mut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ubstitu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Inser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Dele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Frameshif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Point Mut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160" y="1905120"/>
            <a:ext cx="518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ange of a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ingl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nucleotid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cludes the deletion, insertion, or substitution of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nucleotide in a gen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Are Mutations Helpful or Harmful?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utations happen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regularl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most all mutations are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neutral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hemicals &amp; U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radiation cause mutatio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y mutations are 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repair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y enzym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Comic Sans MS"/>
              </a:rPr>
              <a:t>No change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15880" y="1546200"/>
            <a:ext cx="40384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ormal ge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GGAGUGCGGU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9933"/>
                </a:solidFill>
                <a:latin typeface="Comic Sans MS"/>
              </a:rPr>
              <a:t>Cod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66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48320" y="1600200"/>
            <a:ext cx="4127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ubstitution m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TCACGCC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AGUGCG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Glu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5003280" y="3286080"/>
            <a:ext cx="3342960" cy="171000"/>
            <a:chOff x="5003280" y="3286080"/>
            <a:chExt cx="3342960" cy="171000"/>
          </a:xfrm>
        </p:grpSpPr>
        <p:sp>
          <p:nvSpPr>
            <p:cNvPr id="126" name="AutoShape 6"/>
            <p:cNvSpPr/>
            <p:nvPr/>
          </p:nvSpPr>
          <p:spPr>
            <a:xfrm rot="5400000">
              <a:off x="5237280" y="306864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 rot="5400000">
              <a:off x="5923080" y="30636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AutoShape 8"/>
            <p:cNvSpPr/>
            <p:nvPr/>
          </p:nvSpPr>
          <p:spPr>
            <a:xfrm rot="5400000">
              <a:off x="6582240" y="30600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AutoShape 9"/>
            <p:cNvSpPr/>
            <p:nvPr/>
          </p:nvSpPr>
          <p:spPr>
            <a:xfrm rot="5400000">
              <a:off x="7269840" y="305496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 rot="5400000">
              <a:off x="7957800" y="305172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867960" y="3249720"/>
            <a:ext cx="3342960" cy="171000"/>
            <a:chOff x="867960" y="3249720"/>
            <a:chExt cx="3342960" cy="171000"/>
          </a:xfrm>
        </p:grpSpPr>
        <p:sp>
          <p:nvSpPr>
            <p:cNvPr id="132" name="AutoShape 12"/>
            <p:cNvSpPr/>
            <p:nvPr/>
          </p:nvSpPr>
          <p:spPr>
            <a:xfrm rot="5400000">
              <a:off x="1101960" y="303228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 rot="5400000">
              <a:off x="1787760" y="302724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 rot="5400000">
              <a:off x="2446920" y="302364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AutoShape 15"/>
            <p:cNvSpPr/>
            <p:nvPr/>
          </p:nvSpPr>
          <p:spPr>
            <a:xfrm rot="5400000">
              <a:off x="3134520" y="30186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AutoShape 16"/>
            <p:cNvSpPr/>
            <p:nvPr/>
          </p:nvSpPr>
          <p:spPr>
            <a:xfrm rot="5400000">
              <a:off x="3822480" y="301536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00"/>
                </a:solidFill>
                <a:latin typeface="Comic Sans MS"/>
              </a:rPr>
              <a:t>Disaster!!!!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515880" y="1546200"/>
            <a:ext cx="40384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Normal g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GGAGUGCGG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9933"/>
                </a:solidFill>
                <a:latin typeface="Comic Sans MS"/>
              </a:rPr>
              <a:t>Cod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66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648320" y="1600200"/>
            <a:ext cx="4127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Substitution m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AGAGUG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5003280" y="3286080"/>
            <a:ext cx="3342960" cy="171000"/>
            <a:chOff x="5003280" y="3286080"/>
            <a:chExt cx="3342960" cy="171000"/>
          </a:xfrm>
        </p:grpSpPr>
        <p:sp>
          <p:nvSpPr>
            <p:cNvPr id="141" name="AutoShape 6"/>
            <p:cNvSpPr/>
            <p:nvPr/>
          </p:nvSpPr>
          <p:spPr>
            <a:xfrm rot="5400000">
              <a:off x="5237280" y="306864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 rot="5400000">
              <a:off x="5923080" y="30636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AutoShape 8"/>
            <p:cNvSpPr/>
            <p:nvPr/>
          </p:nvSpPr>
          <p:spPr>
            <a:xfrm rot="5400000">
              <a:off x="6582240" y="306000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AutoShape 9"/>
            <p:cNvSpPr/>
            <p:nvPr/>
          </p:nvSpPr>
          <p:spPr>
            <a:xfrm rot="5400000">
              <a:off x="7269840" y="305496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AutoShape 10"/>
            <p:cNvSpPr/>
            <p:nvPr/>
          </p:nvSpPr>
          <p:spPr>
            <a:xfrm rot="5400000">
              <a:off x="7957800" y="3051720"/>
              <a:ext cx="154080" cy="62244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6" name="Group 11"/>
          <p:cNvGrpSpPr/>
          <p:nvPr/>
        </p:nvGrpSpPr>
        <p:grpSpPr>
          <a:xfrm>
            <a:off x="834840" y="3193920"/>
            <a:ext cx="3342600" cy="171360"/>
            <a:chOff x="834840" y="3193920"/>
            <a:chExt cx="3342600" cy="171360"/>
          </a:xfrm>
        </p:grpSpPr>
        <p:sp>
          <p:nvSpPr>
            <p:cNvPr id="147" name="AutoShape 12"/>
            <p:cNvSpPr/>
            <p:nvPr/>
          </p:nvSpPr>
          <p:spPr>
            <a:xfrm rot="5400000">
              <a:off x="1068840" y="297684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AutoShape 13"/>
            <p:cNvSpPr/>
            <p:nvPr/>
          </p:nvSpPr>
          <p:spPr>
            <a:xfrm rot="5400000">
              <a:off x="1754640" y="297180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AutoShape 14"/>
            <p:cNvSpPr/>
            <p:nvPr/>
          </p:nvSpPr>
          <p:spPr>
            <a:xfrm rot="5400000">
              <a:off x="2413800" y="296820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AutoShape 15"/>
            <p:cNvSpPr/>
            <p:nvPr/>
          </p:nvSpPr>
          <p:spPr>
            <a:xfrm rot="5400000">
              <a:off x="3101400" y="296316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AutoShape 16"/>
            <p:cNvSpPr/>
            <p:nvPr/>
          </p:nvSpPr>
          <p:spPr>
            <a:xfrm rot="5400000">
              <a:off x="3789000" y="2959920"/>
              <a:ext cx="154440" cy="622440"/>
            </a:xfrm>
            <a:custGeom>
              <a:avLst/>
              <a:gdLst>
                <a:gd name="textAreaLeft" fmla="*/ 0 w 154440"/>
                <a:gd name="textAreaRight" fmla="*/ 55800 w 154440"/>
                <a:gd name="textAreaTop" fmla="*/ 16200 h 622440"/>
                <a:gd name="textAreaBottom" fmla="*/ 60624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" name="Text Box 4"/>
          <p:cNvSpPr/>
          <p:nvPr/>
        </p:nvSpPr>
        <p:spPr>
          <a:xfrm>
            <a:off x="222120" y="634356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aul Billie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Comic Sans MS"/>
              </a:rPr>
              <a:t>Mutations: Inver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15880" y="2290680"/>
            <a:ext cx="40384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Normal g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GGAGUGCGGU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9933"/>
                </a:solidFill>
                <a:latin typeface="Comic Sans MS"/>
              </a:rPr>
              <a:t>Cod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66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648320" y="2279520"/>
            <a:ext cx="41274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Inversion m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TCACGCC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G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AGUGCGG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G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493560" y="1219320"/>
            <a:ext cx="76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ion mutations, also, only affect a small part of the gen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835200" y="3071880"/>
            <a:ext cx="3309480" cy="171000"/>
            <a:chOff x="835200" y="3071880"/>
            <a:chExt cx="3309480" cy="171000"/>
          </a:xfrm>
        </p:grpSpPr>
        <p:sp>
          <p:nvSpPr>
            <p:cNvPr id="158" name="AutoShape 13"/>
            <p:cNvSpPr/>
            <p:nvPr/>
          </p:nvSpPr>
          <p:spPr>
            <a:xfrm rot="5400000">
              <a:off x="1066320" y="285768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AutoShape 14"/>
            <p:cNvSpPr/>
            <p:nvPr/>
          </p:nvSpPr>
          <p:spPr>
            <a:xfrm rot="5400000">
              <a:off x="1745280" y="285264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AutoShape 15"/>
            <p:cNvSpPr/>
            <p:nvPr/>
          </p:nvSpPr>
          <p:spPr>
            <a:xfrm rot="5400000">
              <a:off x="2397960" y="284904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AutoShape 16"/>
            <p:cNvSpPr/>
            <p:nvPr/>
          </p:nvSpPr>
          <p:spPr>
            <a:xfrm rot="5400000">
              <a:off x="3078720" y="284400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7"/>
            <p:cNvSpPr/>
            <p:nvPr/>
          </p:nvSpPr>
          <p:spPr>
            <a:xfrm rot="5400000">
              <a:off x="3759480" y="2840760"/>
              <a:ext cx="154080" cy="616320"/>
            </a:xfrm>
            <a:custGeom>
              <a:avLst/>
              <a:gdLst>
                <a:gd name="textAreaLeft" fmla="*/ 0 w 154080"/>
                <a:gd name="textAreaRight" fmla="*/ 55440 w 154080"/>
                <a:gd name="textAreaTop" fmla="*/ 15840 h 616320"/>
                <a:gd name="textAreaBottom" fmla="*/ 600480 h 6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18"/>
          <p:cNvGrpSpPr/>
          <p:nvPr/>
        </p:nvGrpSpPr>
        <p:grpSpPr>
          <a:xfrm>
            <a:off x="5052600" y="3040200"/>
            <a:ext cx="3265200" cy="204120"/>
            <a:chOff x="5052600" y="3040200"/>
            <a:chExt cx="3265200" cy="204120"/>
          </a:xfrm>
        </p:grpSpPr>
        <p:sp>
          <p:nvSpPr>
            <p:cNvPr id="164" name="AutoShape 19"/>
            <p:cNvSpPr/>
            <p:nvPr/>
          </p:nvSpPr>
          <p:spPr>
            <a:xfrm rot="5400000">
              <a:off x="5264640" y="284832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20"/>
            <p:cNvSpPr/>
            <p:nvPr/>
          </p:nvSpPr>
          <p:spPr>
            <a:xfrm rot="5400000">
              <a:off x="5934600" y="284220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AutoShape 21"/>
            <p:cNvSpPr/>
            <p:nvPr/>
          </p:nvSpPr>
          <p:spPr>
            <a:xfrm rot="5400000">
              <a:off x="6578280" y="283824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2"/>
            <p:cNvSpPr/>
            <p:nvPr/>
          </p:nvSpPr>
          <p:spPr>
            <a:xfrm rot="5400000">
              <a:off x="7250040" y="283212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3"/>
            <p:cNvSpPr/>
            <p:nvPr/>
          </p:nvSpPr>
          <p:spPr>
            <a:xfrm rot="5400000">
              <a:off x="7921800" y="2828160"/>
              <a:ext cx="183960" cy="608040"/>
            </a:xfrm>
            <a:custGeom>
              <a:avLst/>
              <a:gdLst>
                <a:gd name="textAreaLeft" fmla="*/ 0 w 183960"/>
                <a:gd name="textAreaRight" fmla="*/ 66240 w 183960"/>
                <a:gd name="textAreaTop" fmla="*/ 15840 h 608040"/>
                <a:gd name="textAreaBottom" fmla="*/ 592200 h 60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Point Mut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160" y="18284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ickle Cell disease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 the result of one nucleotide substitu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emoglobin gen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71" name="Picture 2" descr="http://www.defiers.com/sc.jpg"/>
          <p:cNvPicPr/>
          <p:nvPr/>
        </p:nvPicPr>
        <p:blipFill>
          <a:blip r:embed="rId1"/>
          <a:stretch/>
        </p:blipFill>
        <p:spPr>
          <a:xfrm>
            <a:off x="4800600" y="2057400"/>
            <a:ext cx="3286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Frameshift Mut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120" y="1905120"/>
            <a:ext cx="54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serting or deleting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ne or more nucleotid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anges the “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ading fra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” like changing a sentenc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ilt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correctly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Frameshift Mut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9051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Original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1100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The fat cat ate the wee rat</a:t>
            </a: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Frame Shift (“a” added)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e fat 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 tat eth ewe era 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Amino Acid Sequence Changed-Deletion 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0" y="2077920"/>
            <a:ext cx="49528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omic Sans MS"/>
              </a:rPr>
              <a:t>Normal ge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CTC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GAGGAGUGCGG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9933"/>
                </a:solidFill>
                <a:latin typeface="Comic Sans MS"/>
              </a:rPr>
              <a:t>Cod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-Glu-Glu-Cys-G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6600"/>
                </a:solidFill>
                <a:latin typeface="Comic Sans MS"/>
              </a:rPr>
              <a:t>Amino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4952880" y="1981080"/>
            <a:ext cx="40388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GT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_C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TCACG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CA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AGUGCGG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Gly-Ser-Ala-V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nimation of gene mutations"/>
          <p:cNvPicPr/>
          <p:nvPr/>
        </p:nvPicPr>
        <p:blipFill>
          <a:blip r:embed="rId1"/>
          <a:stretch/>
        </p:blipFill>
        <p:spPr>
          <a:xfrm>
            <a:off x="844560" y="2286000"/>
            <a:ext cx="705492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Gene Mutation Anima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362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Comic Sans MS"/>
              </a:rPr>
              <a:t>FYI </a:t>
            </a:r>
            <a:endParaRPr b="0" lang="en-US" sz="80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www.emc.maricopa.edu/faculty/farabee/BIOBK/Human_46,XY.gif"/>
          <p:cNvPicPr/>
          <p:nvPr/>
        </p:nvPicPr>
        <p:blipFill>
          <a:blip r:embed="rId1"/>
          <a:stretch/>
        </p:blipFill>
        <p:spPr>
          <a:xfrm>
            <a:off x="762120" y="1104840"/>
            <a:ext cx="8076960" cy="5219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Normal Mal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C79B-953F-49EF-B3BC-96F7553DC68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858000" y="6324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n = 4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Are Mutations Helpful or Harmful?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18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ome type of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kin cancers and leukemia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result from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omatic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utation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ome mutations may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improv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 organism’s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survival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(beneficial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Normal Femal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FCC1-6F49-4E2D-9710-1C27AC54C73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2" descr="http://www.biology.iupui.edu/biocourses/N100/images/nmlfemale.gif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69343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n = 4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k-12.pisd.edu/currInst/science/Genetic/karyo-tri21-r-m-gray.gif"/>
          <p:cNvPicPr/>
          <p:nvPr/>
        </p:nvPicPr>
        <p:blipFill>
          <a:blip r:embed="rId1"/>
          <a:stretch/>
        </p:blipFill>
        <p:spPr>
          <a:xfrm>
            <a:off x="838080" y="1295280"/>
            <a:ext cx="7925040" cy="5029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Male, Trisomy 21 (Down’s)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D27C-61CD-485D-A42E-DB8C303BEF7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69343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n = 4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Female Down’s Syndrome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2DC0-CFF8-4267-8232-9C82B7C0F69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2" descr="http://www.biologycorner.com/resources/downs.gif"/>
          <p:cNvPicPr/>
          <p:nvPr/>
        </p:nvPicPr>
        <p:blipFill>
          <a:blip r:embed="rId1"/>
          <a:stretch/>
        </p:blipFill>
        <p:spPr>
          <a:xfrm>
            <a:off x="563400" y="1447920"/>
            <a:ext cx="8352000" cy="51051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7010280" y="6248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n = 4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What Causes Mutation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62120" y="1600200"/>
            <a:ext cx="8007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There are two ways in which DNA can become mutat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tations can be inherite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ent to ch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tations can be acqui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vironmental dam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stakes when DNA is copi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57909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Types of Mutations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Chromosome Muta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 Involve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hanging the structur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a chromos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oss or gai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part of a chromos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5" descr="chromosome"/>
          <p:cNvPicPr/>
          <p:nvPr/>
        </p:nvPicPr>
        <p:blipFill>
          <a:blip r:embed="rId1"/>
          <a:srcRect l="0" t="0" r="31044" b="0"/>
          <a:stretch/>
        </p:blipFill>
        <p:spPr>
          <a:xfrm>
            <a:off x="4267080" y="1600200"/>
            <a:ext cx="19051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Chromosome Mutations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457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ve types exist: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Dele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nver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loc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disjun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Duplic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Delet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ue t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breakage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iec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f a chromosome i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9" name="Picture 5" descr="chromosomaldeletion"/>
          <p:cNvPicPr/>
          <p:nvPr/>
        </p:nvPicPr>
        <p:blipFill>
          <a:blip r:embed="rId1"/>
          <a:srcRect l="0" t="0" r="0" b="8356"/>
          <a:stretch/>
        </p:blipFill>
        <p:spPr>
          <a:xfrm>
            <a:off x="609480" y="3657600"/>
            <a:ext cx="51055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Inversion</a:t>
            </a:r>
            <a:endParaRPr b="0" lang="en-US" sz="4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791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romosome segment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breaks off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gment flips arou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backward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gment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attach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Picture 5" descr="inversion"/>
          <p:cNvPicPr/>
          <p:nvPr/>
        </p:nvPicPr>
        <p:blipFill>
          <a:blip r:embed="rId1"/>
          <a:srcRect l="0" t="8729" r="0" b="50006"/>
          <a:stretch/>
        </p:blipFill>
        <p:spPr>
          <a:xfrm>
            <a:off x="533520" y="4287960"/>
            <a:ext cx="5715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5:56:20Z</dcterms:created>
  <dc:creator>Cheryl Massengale</dc:creator>
  <dc:description/>
  <dc:language>en-US</dc:language>
  <cp:lastModifiedBy>John AJ O'Connor</cp:lastModifiedBy>
  <dcterms:modified xsi:type="dcterms:W3CDTF">2012-01-12T01:40:27Z</dcterms:modified>
  <cp:revision>38</cp:revision>
  <dc:subject/>
  <dc:title>Mutations</dc:title>
</cp:coreProperties>
</file>